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BB9-633D-4178-A1F7-A8677465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58E-8F54-43AE-B5EB-7C2B0F1A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CCC-2366-4488-8715-A569B4BD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CC4-DCCB-4EBC-A8B9-19DB8E7D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2D5-BC4A-48F6-A95C-38A0869A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7B2-15E2-4C4B-A478-C95A0654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6BA-08D6-480F-BAA4-4052735A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D8D-6CA6-4FF6-AC5C-C305D02D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3AB-AC1B-4519-8313-5C7A36B1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A2F-6E04-489B-A39D-A0CECFD7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F7E-2797-4EE3-900A-BB62336B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24D-55D5-47BA-926F-AE26E796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D2FE-72C6-4721-9EA8-2226EDDBB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7 S t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ou zrak svoj k neb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u som iba pútni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udzinec a h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asiteľ mi chy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čnú blažen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sa navždy skonč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lesť, tráp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budem 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ána za vykúpen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on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úžbou zrak svoj k nebu často obraci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tiaľ v krátk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čas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láve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je moja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ho žitia s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z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ríde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ý ten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on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ým, čo úzkou ces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odia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itne nové rán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mizne smrti ti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Pán slovo spl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ho cirkv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iluje ju vrúc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 sa obet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on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12:29Z</dcterms:modified>
  <cp:revision>23</cp:revision>
  <dc:subject/>
  <dc:title>Je veľký náš Pán, on slávy je Kráľ Nech do všetkých strán  spev vrúcnych znie chvál.</dc:title>
</cp:coreProperties>
</file>